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EC271-40DA-4285-91B6-3E3E01746F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2802D-3E3C-44A2-ADB4-C999E1B246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B73F1-B84D-4BEE-A372-267008EE58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28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136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28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136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9B55D-41A3-4146-BFBF-709B7F37EF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99903-6369-4288-9677-A659088FE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4A945-1345-4711-AA6F-64ACE8257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C87A9-CA25-42F0-A2D9-69085F086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59931-D18A-43C8-98F3-25744126B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613EF-995C-4D79-BEF3-642B8F14E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1582200"/>
            <a:ext cx="777096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DAEDB-D437-402E-8924-9A5F27D95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DDFD8-19FB-4B83-93A0-13F2C368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8F687-8A70-423A-85E6-6142421A1E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B4789-E02B-4E97-8DF1-F5CCF306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60D78-A3CB-41E6-9574-B071AB64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F9394-4599-4DB5-B3E9-9A663FCED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3B467-9BC5-4DBD-A137-5E1E7A0F9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28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136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28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136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6E93D-663E-4C4D-A3BE-88FE3C900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C63EC-A98C-4BBB-AC40-BDF1CFA7E3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01247-A7B2-427B-9BE8-488C85EE60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4AF2F-3164-4844-8FFD-18724EDB95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1582200"/>
            <a:ext cx="777096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0BDA2-A77A-41EB-9999-F06321D67E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6D59C-2A05-41EC-8108-CB0FA3B126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1E1DE-50A3-4CC1-AB14-34341E6BBA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2126C-6234-47B1-9E01-921C7A93DD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556120" y="4749480"/>
            <a:ext cx="546120" cy="392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s-ES" sz="13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4E50C791-482A-463E-A394-476E294E00C3}" type="slidenum">
              <a:rPr b="0" lang="es-E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Num" idx="2"/>
          </p:nvPr>
        </p:nvSpPr>
        <p:spPr>
          <a:xfrm>
            <a:off x="8556120" y="4749480"/>
            <a:ext cx="546120" cy="392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s-ES" sz="13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227F2875-5205-45D2-970B-8665F911A67D}" type="slidenum">
              <a:rPr b="0" lang="es-E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body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3"/>
          </p:nvPr>
        </p:nvSpPr>
        <p:spPr>
          <a:xfrm>
            <a:off x="456840" y="4686480"/>
            <a:ext cx="2128680" cy="35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4"/>
          </p:nvPr>
        </p:nvSpPr>
        <p:spPr>
          <a:xfrm>
            <a:off x="3127320" y="4686480"/>
            <a:ext cx="2897280" cy="35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433160"/>
            <a:ext cx="7772400" cy="1663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7200" spc="-1" strike="noStrike">
                <a:solidFill>
                  <a:srgbClr val="000000"/>
                </a:solidFill>
                <a:latin typeface="Arial"/>
                <a:ea typeface="Arial"/>
              </a:rPr>
              <a:t>Tabla del 8 </a:t>
            </a:r>
            <a:r>
              <a:rPr b="1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(1)</a:t>
            </a: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96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Extendida con decim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8 x 0,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 x 0,00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4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06 x 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4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8 x 0,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,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 x 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 x 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,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 x 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,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8 x 0,1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 x 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 x 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,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 x 2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 x 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,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 x 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,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 x 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 x 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,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8 x 0,02 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8 x 0,0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8 x 0,0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8 x 0,2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8 x 0,0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8 x 0,0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 x 0,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 x 0,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 x 0,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 x 0,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 x 0,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 x 0,0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 x 0,0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 x 0,0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8 x 0,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 x 0,0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 x 0,0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2 x 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3 x 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4 x 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,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5 x 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6 x 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 x 0,02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1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 x 0,0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2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 x 0,0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3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8 x 0,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 x 0,0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4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 x 0,06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4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8 x 0,2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1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8 x 0,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2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8 x 0,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3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,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8 x 0,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0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8 x 0,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4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02 x 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1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 x 0,008 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2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08 x 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3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6-05-16T22:08:37Z</dcterms:modified>
  <cp:revision>3</cp:revision>
  <dc:subject/>
  <dc:title/>
</cp:coreProperties>
</file>